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DBD2D-281A-47F6-BEAA-DBFC2E89B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F827C-28BC-48AE-90DB-F5EE1965E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D905A-DA40-4999-8127-41661D958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A4F91-0917-469E-8147-3831C0D88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BE452-3E5A-48C2-A5F2-28C3626D5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30A88-D938-4878-8368-08BD7916D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C3110-847F-4A1B-805B-8BEBCFC67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F63B2-7B0F-4378-80AA-654CCC2DA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65BA5-12F4-4BFA-A2FF-B4ECC5F57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AE551-5DE3-447A-AF46-6B70AF401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43AA5-59DE-4D95-AC3C-942AE6D02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9C87F-DD77-4F18-9E3C-5489A13F5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F5333-F5CA-44F6-A733-ABC7F01941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5.png"/><Relationship Id="rId5" Type="http://schemas.openxmlformats.org/officeDocument/2006/relationships/image" Target="../media/image4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304920"/>
            <a:ext cx="1930320" cy="2171520"/>
          </a:xfrm>
          <a:prstGeom prst="rect">
            <a:avLst/>
          </a:prstGeom>
          <a:solidFill>
            <a:srgbClr val="68a22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520" rIns="101520" tIns="101520" bIns="101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00200" y="5486400"/>
            <a:ext cx="914400" cy="1054080"/>
          </a:xfrm>
          <a:prstGeom prst="rect">
            <a:avLst/>
          </a:prstGeom>
          <a:solidFill>
            <a:srgbClr val="68a22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520" rIns="101520" tIns="101520" bIns="101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5486400"/>
            <a:ext cx="914400" cy="1066680"/>
          </a:xfrm>
          <a:prstGeom prst="rect">
            <a:avLst/>
          </a:prstGeom>
          <a:solidFill>
            <a:srgbClr val="68a22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520" rIns="101520" tIns="101520" bIns="101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00200" y="4267080"/>
            <a:ext cx="927000" cy="1092240"/>
          </a:xfrm>
          <a:prstGeom prst="rect">
            <a:avLst/>
          </a:prstGeom>
          <a:solidFill>
            <a:srgbClr val="68a22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520" rIns="101520" tIns="101520" bIns="101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267080"/>
            <a:ext cx="927000" cy="1092240"/>
          </a:xfrm>
          <a:prstGeom prst="rect">
            <a:avLst/>
          </a:prstGeom>
          <a:solidFill>
            <a:srgbClr val="68a22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520" rIns="101520" tIns="101520" bIns="101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00200" y="3048120"/>
            <a:ext cx="927000" cy="1092240"/>
          </a:xfrm>
          <a:prstGeom prst="rect">
            <a:avLst/>
          </a:prstGeom>
          <a:solidFill>
            <a:srgbClr val="68a22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520" rIns="101520" tIns="101520" bIns="101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3048120"/>
            <a:ext cx="927000" cy="1092240"/>
          </a:xfrm>
          <a:prstGeom prst="rect">
            <a:avLst/>
          </a:prstGeom>
          <a:solidFill>
            <a:srgbClr val="68a22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520" rIns="101520" tIns="101520" bIns="101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676520" y="3124080"/>
            <a:ext cx="761760" cy="9144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33520" y="3124080"/>
            <a:ext cx="780840" cy="9144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1676520" y="4343400"/>
            <a:ext cx="761760" cy="9144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533520" y="4343400"/>
            <a:ext cx="704880" cy="9144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5"/>
          <a:stretch/>
        </p:blipFill>
        <p:spPr>
          <a:xfrm>
            <a:off x="685800" y="457200"/>
            <a:ext cx="1523880" cy="18288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-393840" y="-1228680"/>
            <a:ext cx="80028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W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-393840" y="-1228680"/>
            <a:ext cx="80028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W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-393840" y="-1228680"/>
            <a:ext cx="80028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W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-1066680"/>
            <a:ext cx="9144000" cy="1260360"/>
          </a:xfrm>
          <a:prstGeom prst="rect">
            <a:avLst/>
          </a:prstGeom>
          <a:solidFill>
            <a:srgbClr val="eeef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101520" bIns="101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8600" y="-838080"/>
            <a:ext cx="8610480" cy="482400"/>
          </a:xfrm>
          <a:prstGeom prst="roundRect">
            <a:avLst>
              <a:gd name="adj" fmla="val 26551"/>
            </a:avLst>
          </a:prstGeom>
          <a:solidFill>
            <a:srgbClr val="3a58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101520" bIns="101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6"/>
          <a:stretch/>
        </p:blipFill>
        <p:spPr>
          <a:xfrm>
            <a:off x="457200" y="-838080"/>
            <a:ext cx="1193760" cy="449280"/>
          </a:xfrm>
          <a:prstGeom prst="rect">
            <a:avLst/>
          </a:prstGeom>
          <a:ln w="12600">
            <a:solidFill>
              <a:srgbClr val="000000"/>
            </a:solidFill>
            <a:round/>
          </a:ln>
        </p:spPr>
      </p:pic>
      <p:sp>
        <p:nvSpPr>
          <p:cNvPr id="59" name=""/>
          <p:cNvSpPr/>
          <p:nvPr/>
        </p:nvSpPr>
        <p:spPr>
          <a:xfrm>
            <a:off x="2362320" y="-609480"/>
            <a:ext cx="4038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        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Home      Profile         Friends        In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6705720" y="-762120"/>
            <a:ext cx="2019240" cy="330480"/>
          </a:xfrm>
          <a:prstGeom prst="roundRect">
            <a:avLst>
              <a:gd name="adj" fmla="val 3150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520" rIns="101520" tIns="101520" bIns="101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238880" y="-685800"/>
            <a:ext cx="69876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Sear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57200" y="-168120"/>
            <a:ext cx="28954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Edward Cull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257800" y="-177840"/>
            <a:ext cx="1003320" cy="355680"/>
          </a:xfrm>
          <a:prstGeom prst="rect">
            <a:avLst/>
          </a:prstGeom>
          <a:solidFill>
            <a:srgbClr val="c0c4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101520" bIns="101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238880" y="-177840"/>
            <a:ext cx="1003320" cy="355680"/>
          </a:xfrm>
          <a:prstGeom prst="rect">
            <a:avLst/>
          </a:prstGeom>
          <a:solidFill>
            <a:srgbClr val="c0c4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101520" bIns="101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229600" y="-177840"/>
            <a:ext cx="355680" cy="355680"/>
          </a:xfrm>
          <a:prstGeom prst="rect">
            <a:avLst/>
          </a:prstGeom>
          <a:solidFill>
            <a:srgbClr val="c0c4d1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101520" bIns="101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334120" y="-152280"/>
            <a:ext cx="7999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4f8b"/>
                </a:solidFill>
                <a:latin typeface="Arial"/>
                <a:ea typeface="ヒラギノ角ゴ Pro W3"/>
              </a:rPr>
              <a:t>Wal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324480" y="-139680"/>
            <a:ext cx="80028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4f8b"/>
                </a:solidFill>
                <a:latin typeface="Arial"/>
                <a:ea typeface="ヒラギノ角ゴ Pro W3"/>
              </a:rPr>
              <a:t>Inf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315200" y="-139680"/>
            <a:ext cx="80028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4f8b"/>
                </a:solidFill>
                <a:latin typeface="Arial"/>
                <a:ea typeface="ヒラギノ角ゴ Pro W3"/>
              </a:rPr>
              <a:t>Photo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8229600" y="-139680"/>
            <a:ext cx="38088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4f8b"/>
                </a:solidFill>
                <a:latin typeface="Arial"/>
                <a:ea typeface="ヒラギノ角ゴ Pro W3"/>
              </a:rPr>
              <a:t>+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57200" y="2590920"/>
            <a:ext cx="2031840" cy="355320"/>
          </a:xfrm>
          <a:prstGeom prst="rect">
            <a:avLst/>
          </a:prstGeom>
          <a:solidFill>
            <a:srgbClr val="c0c4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101520" bIns="101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57200" y="2666880"/>
            <a:ext cx="205740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4f8b"/>
                </a:solidFill>
                <a:latin typeface="Arial"/>
                <a:ea typeface="ヒラギノ角ゴ Pro W3"/>
              </a:rPr>
              <a:t>Friends &amp; Enemie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048120" y="380880"/>
            <a:ext cx="571500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Basic Information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048120" y="3200400"/>
            <a:ext cx="53845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Memorable Moment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905120"/>
            <a:ext cx="532116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About Me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352680" y="609480"/>
            <a:ext cx="40770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Nam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:  Edward Cull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Birthdat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:  June 20, 19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Birthplac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:  Chicago, 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Ag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: 17 (forev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Reason for becoming a vampi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:  Dying of influenz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Relationship Statu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:  Invol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76720" y="5029200"/>
            <a:ext cx="52513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For almost ninety years I’ve walked among my kind, and yours…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all the time thinking I was complete in myself, not realizing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what I was seeking. And not finding anything, because you weren’t alive yet.”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(Chapter 14, p.304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No blood, no foul.”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(Chapter 3, p.61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What if I’m not a superhero? What if I’m the bad guy?”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(Chapter 5, p.92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352680" y="2133720"/>
            <a:ext cx="402588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Loves spending time with Bella Sw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Enjoys listening to music and rea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Vegetarian vampi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Can read people’s min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Loves to drive fa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24080" y="4724280"/>
            <a:ext cx="546120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Quotes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276720" y="3429000"/>
            <a:ext cx="51051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Playing baseball during a thunderstorm is awesome.  It gives us a chance to just be ourselves.  We can use our super strength to run fast and high.  Of course, we love giving each other a hard time.  The last time we played, we hit a major snag!  Another coven of vampires came up.  Their leader, James, was a merciless “tracker” and he decided that Bella would be his next meal.  Of course, I just couldn’t let that happ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-393840" y="-1228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-393840" y="-1228680"/>
            <a:ext cx="360" cy="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-393840" y="-390600"/>
            <a:ext cx="360" cy="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-393840" y="752400"/>
            <a:ext cx="360" cy="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-393840" y="1895400"/>
            <a:ext cx="360" cy="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-393840" y="2857680"/>
            <a:ext cx="360" cy="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-393840" y="4086360"/>
            <a:ext cx="360" cy="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-393840" y="6362640"/>
            <a:ext cx="360" cy="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-393840" y="8086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7"/>
          <a:stretch/>
        </p:blipFill>
        <p:spPr>
          <a:xfrm>
            <a:off x="533520" y="5562720"/>
            <a:ext cx="761760" cy="914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6248520" y="-177840"/>
            <a:ext cx="1003320" cy="35568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101520" bIns="101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8"/>
          <a:stretch/>
        </p:blipFill>
        <p:spPr>
          <a:xfrm>
            <a:off x="1676520" y="5562720"/>
            <a:ext cx="78084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895480" y="2209680"/>
            <a:ext cx="5791320" cy="8384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57200" y="304920"/>
            <a:ext cx="1930320" cy="2171520"/>
          </a:xfrm>
          <a:prstGeom prst="rect">
            <a:avLst/>
          </a:prstGeom>
          <a:solidFill>
            <a:srgbClr val="68a22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520" rIns="101520" tIns="101520" bIns="101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685800" y="457200"/>
            <a:ext cx="1523880" cy="18288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0" y="-1066680"/>
            <a:ext cx="9144000" cy="1260360"/>
          </a:xfrm>
          <a:prstGeom prst="rect">
            <a:avLst/>
          </a:prstGeom>
          <a:solidFill>
            <a:srgbClr val="eeef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101520" bIns="101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-838080"/>
            <a:ext cx="8610480" cy="482400"/>
          </a:xfrm>
          <a:prstGeom prst="roundRect">
            <a:avLst>
              <a:gd name="adj" fmla="val 26551"/>
            </a:avLst>
          </a:prstGeom>
          <a:solidFill>
            <a:srgbClr val="3a58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101520" bIns="101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57200" y="-838080"/>
            <a:ext cx="1193760" cy="449280"/>
          </a:xfrm>
          <a:prstGeom prst="rect">
            <a:avLst/>
          </a:prstGeom>
          <a:ln w="12600">
            <a:solidFill>
              <a:srgbClr val="000000"/>
            </a:solidFill>
            <a:round/>
          </a:ln>
        </p:spPr>
      </p:pic>
      <p:sp>
        <p:nvSpPr>
          <p:cNvPr id="98" name=""/>
          <p:cNvSpPr/>
          <p:nvPr/>
        </p:nvSpPr>
        <p:spPr>
          <a:xfrm>
            <a:off x="2362320" y="-609480"/>
            <a:ext cx="4038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        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Home      Profile         Friends        In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6705720" y="-762120"/>
            <a:ext cx="2019240" cy="330480"/>
          </a:xfrm>
          <a:prstGeom prst="roundRect">
            <a:avLst>
              <a:gd name="adj" fmla="val 3150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520" rIns="101520" tIns="101520" bIns="101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238880" y="-685800"/>
            <a:ext cx="69876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Sear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57200" y="-168120"/>
            <a:ext cx="28954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Edward Cull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248520" y="-177840"/>
            <a:ext cx="1003320" cy="355680"/>
          </a:xfrm>
          <a:prstGeom prst="rect">
            <a:avLst/>
          </a:prstGeom>
          <a:solidFill>
            <a:srgbClr val="c0c4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101520" bIns="101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238880" y="-177840"/>
            <a:ext cx="1003320" cy="355680"/>
          </a:xfrm>
          <a:prstGeom prst="rect">
            <a:avLst/>
          </a:prstGeom>
          <a:solidFill>
            <a:srgbClr val="c0c4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101520" bIns="101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229600" y="-177840"/>
            <a:ext cx="355680" cy="355680"/>
          </a:xfrm>
          <a:prstGeom prst="rect">
            <a:avLst/>
          </a:prstGeom>
          <a:solidFill>
            <a:srgbClr val="c0c4d1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101520" bIns="101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10080" y="-146160"/>
            <a:ext cx="80028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4f8b"/>
                </a:solidFill>
                <a:latin typeface="Arial"/>
                <a:ea typeface="ヒラギノ角ゴ Pro W3"/>
              </a:rPr>
              <a:t>Wal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324480" y="-139680"/>
            <a:ext cx="80028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4f8b"/>
                </a:solidFill>
                <a:latin typeface="Arial"/>
                <a:ea typeface="ヒラギノ角ゴ Pro W3"/>
              </a:rPr>
              <a:t>Inf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315200" y="-139680"/>
            <a:ext cx="80028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4f8b"/>
                </a:solidFill>
                <a:latin typeface="Arial"/>
                <a:ea typeface="ヒラギノ角ゴ Pro W3"/>
              </a:rPr>
              <a:t>Photo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8229600" y="-139680"/>
            <a:ext cx="38088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4f8b"/>
                </a:solidFill>
                <a:latin typeface="Arial"/>
                <a:ea typeface="ヒラギノ角ゴ Pro W3"/>
              </a:rPr>
              <a:t>+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80880" y="3048120"/>
            <a:ext cx="213372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4f8b"/>
                </a:solidFill>
                <a:latin typeface="Arial"/>
                <a:ea typeface="ヒラギノ角ゴ Pro W3"/>
              </a:rPr>
              <a:t>More Stuff About M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895480" y="1219320"/>
            <a:ext cx="5791320" cy="8380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-393840" y="-1228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-393840" y="-1228680"/>
            <a:ext cx="360" cy="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-393840" y="-390600"/>
            <a:ext cx="360" cy="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-393840" y="752400"/>
            <a:ext cx="360" cy="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-393840" y="1895400"/>
            <a:ext cx="360" cy="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-393840" y="2857680"/>
            <a:ext cx="360" cy="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-393840" y="4086360"/>
            <a:ext cx="360" cy="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-393840" y="6362640"/>
            <a:ext cx="360" cy="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-393840" y="8086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2971800" y="2286000"/>
            <a:ext cx="609480" cy="6858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6248520" y="-177840"/>
            <a:ext cx="1003320" cy="35568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101520" bIns="101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666880" y="457200"/>
            <a:ext cx="6019920" cy="482760"/>
          </a:xfrm>
          <a:prstGeom prst="roundRect">
            <a:avLst>
              <a:gd name="adj" fmla="val 26551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101520" bIns="101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971800" y="533520"/>
            <a:ext cx="3962520" cy="304560"/>
          </a:xfrm>
          <a:prstGeom prst="roundRect">
            <a:avLst>
              <a:gd name="adj" fmla="val 26551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101520" bIns="101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are you doing right now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467480" y="533520"/>
            <a:ext cx="800280" cy="291960"/>
          </a:xfrm>
          <a:prstGeom prst="rect">
            <a:avLst/>
          </a:prstGeom>
          <a:solidFill>
            <a:srgbClr val="333399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4f8b"/>
                </a:solidFill>
                <a:latin typeface="Arial"/>
                <a:ea typeface="ヒラギノ角ゴ Pro W3"/>
              </a:rPr>
              <a:t>Pos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4"/>
          <a:stretch/>
        </p:blipFill>
        <p:spPr>
          <a:xfrm>
            <a:off x="2971800" y="1295280"/>
            <a:ext cx="571680" cy="6858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3657600" y="1371600"/>
            <a:ext cx="4800600" cy="67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Arial"/>
              </a:rPr>
              <a:t>Edward Cullen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rot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at 1:00 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’m just hanging out watching Bella sleep.  She’s dreaming and making funny fac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657600" y="2209680"/>
            <a:ext cx="480060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Arial"/>
              </a:rPr>
              <a:t>Jacob Black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rot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at 1:09 a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illin’ and wondering why I keep having the urge to howl at the moon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733920" y="3429000"/>
            <a:ext cx="48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illin and wondering why I keep having the urge to howl at the moon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895480" y="3276720"/>
            <a:ext cx="5791320" cy="8380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971800" y="4343400"/>
            <a:ext cx="5791320" cy="9144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2971800" y="5562360"/>
            <a:ext cx="5791320" cy="7617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5"/>
          <a:stretch/>
        </p:blipFill>
        <p:spPr>
          <a:xfrm>
            <a:off x="2971800" y="3352680"/>
            <a:ext cx="609480" cy="6858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3733920" y="3352680"/>
            <a:ext cx="480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Arial"/>
              </a:rPr>
              <a:t>Alice Cullen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rot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at 1:40 a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 many clothes and so little time!  LO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6"/>
          <a:stretch/>
        </p:blipFill>
        <p:spPr>
          <a:xfrm>
            <a:off x="3048120" y="4419720"/>
            <a:ext cx="506160" cy="76176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3809880" y="4419720"/>
            <a:ext cx="4800600" cy="67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Arial"/>
              </a:rPr>
              <a:t>Emmett Hale Cullen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rot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at 2:01 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oping I get to meet up with James very, very soon.  Nobody messes with the Cullen Coven or our frien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7"/>
          <a:stretch/>
        </p:blipFill>
        <p:spPr>
          <a:xfrm>
            <a:off x="3048120" y="5562720"/>
            <a:ext cx="549000" cy="6858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3733920" y="5638680"/>
            <a:ext cx="4800600" cy="4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Arial"/>
              </a:rPr>
              <a:t>Rosalie Hale Cullen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rot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at 2:05 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lla, Bella, Bella!  I just don’t get it.  She’s so…human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895480" y="1219320"/>
            <a:ext cx="5791320" cy="0"/>
          </a:xfrm>
          <a:prstGeom prst="line">
            <a:avLst/>
          </a:prstGeom>
          <a:ln w="93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895480" y="2209680"/>
            <a:ext cx="5791320" cy="0"/>
          </a:xfrm>
          <a:prstGeom prst="line">
            <a:avLst/>
          </a:prstGeom>
          <a:ln w="93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3505320"/>
            <a:ext cx="2032200" cy="2895480"/>
          </a:xfrm>
          <a:prstGeom prst="rect">
            <a:avLst/>
          </a:prstGeom>
          <a:solidFill>
            <a:srgbClr val="c0c4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101520" bIns="101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etwork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llen Cov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choo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ks High Scho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peci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mpi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avorite Hobb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k Hun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895480" y="3276720"/>
            <a:ext cx="5791320" cy="0"/>
          </a:xfrm>
          <a:prstGeom prst="line">
            <a:avLst/>
          </a:prstGeom>
          <a:ln w="93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971800" y="4343400"/>
            <a:ext cx="5791320" cy="0"/>
          </a:xfrm>
          <a:prstGeom prst="line">
            <a:avLst/>
          </a:prstGeom>
          <a:ln w="93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71800" y="5562720"/>
            <a:ext cx="5791320" cy="0"/>
          </a:xfrm>
          <a:prstGeom prst="line">
            <a:avLst/>
          </a:prstGeom>
          <a:ln w="93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457200" y="304920"/>
            <a:ext cx="1930320" cy="2171520"/>
          </a:xfrm>
          <a:prstGeom prst="rect">
            <a:avLst/>
          </a:prstGeom>
          <a:solidFill>
            <a:srgbClr val="68a22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520" rIns="101520" tIns="101520" bIns="101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685800" y="457200"/>
            <a:ext cx="1523880" cy="182880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0" y="-1066680"/>
            <a:ext cx="9144000" cy="1260360"/>
          </a:xfrm>
          <a:prstGeom prst="rect">
            <a:avLst/>
          </a:prstGeom>
          <a:solidFill>
            <a:srgbClr val="eeef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101520" bIns="101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28600" y="-838080"/>
            <a:ext cx="8610480" cy="482400"/>
          </a:xfrm>
          <a:prstGeom prst="roundRect">
            <a:avLst>
              <a:gd name="adj" fmla="val 26551"/>
            </a:avLst>
          </a:prstGeom>
          <a:solidFill>
            <a:srgbClr val="3a58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101520" bIns="101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457200" y="-838080"/>
            <a:ext cx="1193760" cy="449280"/>
          </a:xfrm>
          <a:prstGeom prst="rect">
            <a:avLst/>
          </a:prstGeom>
          <a:ln w="12600">
            <a:solidFill>
              <a:srgbClr val="000000"/>
            </a:solidFill>
            <a:round/>
          </a:ln>
        </p:spPr>
      </p:pic>
      <p:sp>
        <p:nvSpPr>
          <p:cNvPr id="149" name=""/>
          <p:cNvSpPr/>
          <p:nvPr/>
        </p:nvSpPr>
        <p:spPr>
          <a:xfrm>
            <a:off x="2362320" y="-609480"/>
            <a:ext cx="4038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        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Home      Profile         Friends        In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6705720" y="-762120"/>
            <a:ext cx="2019240" cy="330480"/>
          </a:xfrm>
          <a:prstGeom prst="roundRect">
            <a:avLst>
              <a:gd name="adj" fmla="val 3150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520" rIns="101520" tIns="101520" bIns="101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238880" y="-685800"/>
            <a:ext cx="69876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Sear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57200" y="-168120"/>
            <a:ext cx="28954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Edward Cull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257800" y="-177840"/>
            <a:ext cx="1003320" cy="355680"/>
          </a:xfrm>
          <a:prstGeom prst="rect">
            <a:avLst/>
          </a:prstGeom>
          <a:solidFill>
            <a:srgbClr val="c0c4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101520" bIns="101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248520" y="-177840"/>
            <a:ext cx="1003320" cy="355680"/>
          </a:xfrm>
          <a:prstGeom prst="rect">
            <a:avLst/>
          </a:prstGeom>
          <a:solidFill>
            <a:srgbClr val="c0c4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101520" bIns="101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8229600" y="-177840"/>
            <a:ext cx="355680" cy="355680"/>
          </a:xfrm>
          <a:prstGeom prst="rect">
            <a:avLst/>
          </a:prstGeom>
          <a:solidFill>
            <a:srgbClr val="c0c4d1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101520" bIns="101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334120" y="-146160"/>
            <a:ext cx="79992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4f8b"/>
                </a:solidFill>
                <a:latin typeface="Arial"/>
                <a:ea typeface="ヒラギノ角ゴ Pro W3"/>
              </a:rPr>
              <a:t>Wal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400800" y="-139680"/>
            <a:ext cx="80028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4f8b"/>
                </a:solidFill>
                <a:latin typeface="Arial"/>
                <a:ea typeface="ヒラギノ角ゴ Pro W3"/>
              </a:rPr>
              <a:t>Inf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315200" y="-139680"/>
            <a:ext cx="80028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4f8b"/>
                </a:solidFill>
                <a:latin typeface="Arial"/>
                <a:ea typeface="ヒラギノ角ゴ Pro W3"/>
              </a:rPr>
              <a:t>Photo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229600" y="-139680"/>
            <a:ext cx="38088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4f8b"/>
                </a:solidFill>
                <a:latin typeface="Arial"/>
                <a:ea typeface="ヒラギノ角ゴ Pro W3"/>
              </a:rPr>
              <a:t>+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895480" y="1295280"/>
            <a:ext cx="1524240" cy="10670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-393840" y="-1228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-393840" y="-1228680"/>
            <a:ext cx="360" cy="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-393840" y="-390600"/>
            <a:ext cx="360" cy="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-393840" y="752400"/>
            <a:ext cx="360" cy="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-393840" y="1895400"/>
            <a:ext cx="360" cy="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-393840" y="2857680"/>
            <a:ext cx="360" cy="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-393840" y="4086360"/>
            <a:ext cx="360" cy="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-393840" y="6362640"/>
            <a:ext cx="360" cy="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-393840" y="8086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257800" y="-177840"/>
            <a:ext cx="1003320" cy="35568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101520" bIns="101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666880" y="457200"/>
            <a:ext cx="6019920" cy="482760"/>
          </a:xfrm>
          <a:prstGeom prst="roundRect">
            <a:avLst>
              <a:gd name="adj" fmla="val 26551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101520" bIns="101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971800" y="533520"/>
            <a:ext cx="3962520" cy="304560"/>
          </a:xfrm>
          <a:prstGeom prst="roundRect">
            <a:avLst>
              <a:gd name="adj" fmla="val 26551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101520" bIns="101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vorite Pho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391520" y="533520"/>
            <a:ext cx="799920" cy="291960"/>
          </a:xfrm>
          <a:prstGeom prst="rect">
            <a:avLst/>
          </a:prstGeom>
          <a:solidFill>
            <a:srgbClr val="333399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4f8b"/>
                </a:solidFill>
                <a:latin typeface="Arial"/>
                <a:ea typeface="ヒラギノ角ゴ Pro W3"/>
              </a:rPr>
              <a:t>Pos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029200" y="1295280"/>
            <a:ext cx="3657600" cy="236232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105520" y="4191120"/>
            <a:ext cx="3657600" cy="23619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4191120"/>
            <a:ext cx="3886200" cy="2286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895480" y="2819520"/>
            <a:ext cx="1524240" cy="10666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33520" y="2819520"/>
            <a:ext cx="1523880" cy="10666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3"/>
          <a:stretch/>
        </p:blipFill>
        <p:spPr>
          <a:xfrm>
            <a:off x="2819520" y="2819520"/>
            <a:ext cx="1676160" cy="106020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4"/>
          <a:stretch/>
        </p:blipFill>
        <p:spPr>
          <a:xfrm>
            <a:off x="5029200" y="1295280"/>
            <a:ext cx="3733920" cy="233388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5"/>
          <a:stretch/>
        </p:blipFill>
        <p:spPr>
          <a:xfrm>
            <a:off x="2819520" y="1295280"/>
            <a:ext cx="1600200" cy="118584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6"/>
          <a:stretch/>
        </p:blipFill>
        <p:spPr>
          <a:xfrm>
            <a:off x="533520" y="2819520"/>
            <a:ext cx="1752480" cy="109224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7"/>
          <a:stretch/>
        </p:blipFill>
        <p:spPr>
          <a:xfrm>
            <a:off x="533520" y="4191120"/>
            <a:ext cx="4038480" cy="242244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5181480" y="3124080"/>
            <a:ext cx="335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roach"/>
              </a:rPr>
              <a:t>Oh Edward, you’re so awesome…sigh!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8"/>
          <a:stretch/>
        </p:blipFill>
        <p:spPr>
          <a:xfrm>
            <a:off x="5105520" y="4114800"/>
            <a:ext cx="3747960" cy="25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 Us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ilight by Stephanie My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6T14:47:39Z</dcterms:created>
  <dc:creator>user</dc:creator>
  <dc:description/>
  <dc:language>en-US</dc:language>
  <cp:lastModifiedBy>user</cp:lastModifiedBy>
  <dcterms:modified xsi:type="dcterms:W3CDTF">2010-04-21T12:53:34Z</dcterms:modified>
  <cp:revision>10</cp:revision>
  <dc:subject/>
  <dc:title>Slide 1</dc:title>
</cp:coreProperties>
</file>