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090-9F92-4540-957A-96AC9EC5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972-D8F5-48BA-9774-4AF39436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8E2-2A1E-4C2F-B11A-E1473B1D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446-03DE-4676-9714-29EACEF2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3F5-E43C-4D74-A21A-B4D514E9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BEF-F332-4C4B-8862-3061806A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A8C-77B6-4EB4-8ED6-252A90B7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649-12D2-44BF-A7AB-B187AF66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0C2-11FE-437B-A533-22CE15B9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4DE-19C2-4C67-9E03-5619A6C2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A05-0944-4D7A-BE1C-9ECF8596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E16-4545-4DA4-A576-A26E00B7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5DE1-9585-4136-AD43-B74850A98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486400"/>
            <a:ext cx="914400" cy="105408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486400"/>
            <a:ext cx="914400" cy="106668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426708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26708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04812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04812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780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76520" y="434340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33520" y="4343400"/>
            <a:ext cx="70488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59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-152280"/>
            <a:ext cx="799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90920"/>
            <a:ext cx="2031840" cy="35532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666880"/>
            <a:ext cx="2057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Friends &amp; Enem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0880"/>
            <a:ext cx="5715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sic Information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200400"/>
            <a:ext cx="5384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morable Moment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905120"/>
            <a:ext cx="5321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out Me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609480"/>
            <a:ext cx="4077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Edward C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rthd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June 20,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rthpla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Chicago, 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17 (fore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ason for becoming a vampi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Dying of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lationship Stat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029200"/>
            <a:ext cx="52513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 almost ninety years I’ve walked among my kind, and yours…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l the time thinking I was complete in myself, not realiz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 was seeking. And not finding anything, because you weren’t alive yet.”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14, p.30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 blood, no foul.”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3, p.6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f I’m not a superhero? What if I’m the bad guy?”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5, p.9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133720"/>
            <a:ext cx="40258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ves spending time with Bella S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joys listening to music an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getarian vamp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n read people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ves to driv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4724280"/>
            <a:ext cx="5461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Quotes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3429000"/>
            <a:ext cx="510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ying baseball during a thunderstorm is awesome.  It gives us a chance to just be ourselves.  We can use our super strength to run fast and high.  Of course, we love giving each other a hard time.  The last time we played, we hit a major snag!  Another coven of vampires came up.  Their leader, James, was a merciless “tracker” and he decided that Bella would be his next meal.  Of course, I just couldn’t let that hap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33520" y="5562720"/>
            <a:ext cx="76176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676520" y="5562720"/>
            <a:ext cx="780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5480" y="2209680"/>
            <a:ext cx="5791320" cy="838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98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-146160"/>
            <a:ext cx="800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04812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More Stuff About 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219320"/>
            <a:ext cx="5791320" cy="83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457200"/>
            <a:ext cx="6019920" cy="482760"/>
          </a:xfrm>
          <a:prstGeom prst="roundRect">
            <a:avLst>
              <a:gd name="adj" fmla="val 265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533520"/>
            <a:ext cx="3962520" cy="304560"/>
          </a:xfrm>
          <a:prstGeom prst="roundRect">
            <a:avLst>
              <a:gd name="adj" fmla="val 265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you doing right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533520"/>
            <a:ext cx="800280" cy="291960"/>
          </a:xfrm>
          <a:prstGeom prst="rect">
            <a:avLst/>
          </a:prstGeom>
          <a:solidFill>
            <a:srgbClr val="333399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o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71800" y="1295280"/>
            <a:ext cx="571680" cy="685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57600" y="1371600"/>
            <a:ext cx="4800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Edward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00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’m just hanging out watching Bella sleep.  She’s dreaming and making funny f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2209680"/>
            <a:ext cx="4800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Jacob 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09 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lin’ and wondering why I keep having the urge to howl at the mo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342900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lin and wondering why I keep having the urge to howl at the mo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276720"/>
            <a:ext cx="5791320" cy="83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4343400"/>
            <a:ext cx="579132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71800" y="5562360"/>
            <a:ext cx="5791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971800" y="335268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33920" y="3352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lic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40 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 many clothes and so little time!  L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3048120" y="4419720"/>
            <a:ext cx="506160" cy="76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9880" y="4419720"/>
            <a:ext cx="4800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Emmett Hal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2:01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ing I get to meet up with James very, very soon.  Nobody messes with the Cullen Coven or our frie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54900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733920" y="5638680"/>
            <a:ext cx="4800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osalie Hal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2:0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la, Bella, Bella!  I just don’t get it.  She’s so…huma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12193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220968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505320"/>
            <a:ext cx="2032200" cy="28954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len Co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ks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vorite Hobb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k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32767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434340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5627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149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-146160"/>
            <a:ext cx="79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1295280"/>
            <a:ext cx="1524240" cy="1067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457200"/>
            <a:ext cx="6019920" cy="482760"/>
          </a:xfrm>
          <a:prstGeom prst="roundRect">
            <a:avLst>
              <a:gd name="adj" fmla="val 265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533520"/>
            <a:ext cx="3962520" cy="304560"/>
          </a:xfrm>
          <a:prstGeom prst="roundRect">
            <a:avLst>
              <a:gd name="adj" fmla="val 265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te Ph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33520"/>
            <a:ext cx="799920" cy="291960"/>
          </a:xfrm>
          <a:prstGeom prst="rect">
            <a:avLst/>
          </a:prstGeom>
          <a:solidFill>
            <a:srgbClr val="333399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o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1295280"/>
            <a:ext cx="3657600" cy="236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191120"/>
            <a:ext cx="3657600" cy="236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4191120"/>
            <a:ext cx="38862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819520"/>
            <a:ext cx="152424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819520"/>
            <a:ext cx="152388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819520" y="2819520"/>
            <a:ext cx="1676160" cy="1060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029200" y="1295280"/>
            <a:ext cx="3733920" cy="233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819520" y="1295280"/>
            <a:ext cx="1600200" cy="1185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533520" y="2819520"/>
            <a:ext cx="1752480" cy="1092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33520" y="4191120"/>
            <a:ext cx="4038480" cy="2422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181480" y="312408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oach"/>
              </a:rPr>
              <a:t>Oh Edward, you’re so awesome…sigh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105520" y="4114800"/>
            <a:ext cx="37479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light by Stephanie M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4:47:39Z</dcterms:created>
  <dc:creator>user</dc:creator>
  <dc:description/>
  <dc:language>en-US</dc:language>
  <cp:lastModifiedBy>user</cp:lastModifiedBy>
  <dcterms:modified xsi:type="dcterms:W3CDTF">2010-04-21T12:53:34Z</dcterms:modified>
  <cp:revision>10</cp:revision>
  <dc:subject/>
  <dc:title>Slide 1</dc:title>
</cp:coreProperties>
</file>