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4182-2493-4879-8884-1C991C4A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60C2-0565-468B-91A5-1A3CB3C3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9ABD-E03B-49B4-8133-2C701684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2D08-32FC-4C74-9B03-8949028A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C8CF-D882-4DE9-827B-51D905C6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2D3-FCCF-416E-8A9E-4C1CC8DC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7D5-EFAB-4BA2-AD3C-AFD6A1E5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245E-03DE-4952-B137-68901B68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E320-D23E-4AB6-B778-1C5339D9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3A4E-743E-4086-A060-34BBD939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3133-87A4-4A98-82DE-F5670119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65DF-282F-4A75-9BB4-2652122A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23A4-EB42-4ACA-8809-CF447124A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1930320" cy="217152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5486400"/>
            <a:ext cx="914400" cy="105408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486400"/>
            <a:ext cx="914400" cy="106668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4267080"/>
            <a:ext cx="927000" cy="109224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267080"/>
            <a:ext cx="927000" cy="109224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048120"/>
            <a:ext cx="927000" cy="109224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048120"/>
            <a:ext cx="927000" cy="109224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76520" y="3124080"/>
            <a:ext cx="76176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78084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676520" y="4343400"/>
            <a:ext cx="76176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33520" y="4343400"/>
            <a:ext cx="70488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5800" y="45720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393840" y="-1228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93840" y="-1228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393840" y="-1228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1066680"/>
            <a:ext cx="9144000" cy="126036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-838080"/>
            <a:ext cx="8610480" cy="482400"/>
          </a:xfrm>
          <a:prstGeom prst="roundRect">
            <a:avLst>
              <a:gd name="adj" fmla="val 26551"/>
            </a:avLst>
          </a:prstGeom>
          <a:solidFill>
            <a:srgbClr val="3a58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457200" y="-838080"/>
            <a:ext cx="1193760" cy="44928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59" name=""/>
          <p:cNvSpPr/>
          <p:nvPr/>
        </p:nvSpPr>
        <p:spPr>
          <a:xfrm>
            <a:off x="2362320" y="-60948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Home      Profile         Friends        In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705720" y="-762120"/>
            <a:ext cx="2019240" cy="330480"/>
          </a:xfrm>
          <a:prstGeom prst="roundRect">
            <a:avLst>
              <a:gd name="adj" fmla="val 315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-685800"/>
            <a:ext cx="6987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-168120"/>
            <a:ext cx="2895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dward Cu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29600" y="-177840"/>
            <a:ext cx="355680" cy="355680"/>
          </a:xfrm>
          <a:prstGeom prst="rect">
            <a:avLst/>
          </a:prstGeom>
          <a:solidFill>
            <a:srgbClr val="c0c4d1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-152280"/>
            <a:ext cx="799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Inf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ho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29600" y="-139680"/>
            <a:ext cx="380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590920"/>
            <a:ext cx="2031840" cy="35532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666880"/>
            <a:ext cx="2057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Friends &amp; Enem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80880"/>
            <a:ext cx="57150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asic Information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3200400"/>
            <a:ext cx="5384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emorable Moment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905120"/>
            <a:ext cx="53211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bout Me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609480"/>
            <a:ext cx="4077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Edward Cu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irthd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June 20, 19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irthpla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Chicago, 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17 (fore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ason for becoming a vampi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Dying of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lationship Statu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5029200"/>
            <a:ext cx="52513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or almost ninety years I’ve walked among my kind, and yours…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ll the time thinking I was complete in myself, not realiz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hat I was seeking. And not finding anything, because you weren’t alive yet.”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Chapter 14, p.30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o blood, no foul.”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Chapter 3, p.6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hat if I’m not a superhero? What if I’m the bad guy?”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Chapter 5, p.9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2133720"/>
            <a:ext cx="40258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oves spending time with Bella Sw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joys listening to music an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getarian vamp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an read people’s mi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oves to drive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4724280"/>
            <a:ext cx="54612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Quotes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3429000"/>
            <a:ext cx="5105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laying baseball during a thunderstorm is awesome.  It gives us a chance to just be ourselves.  We can use our super strength to run fast and high.  Of course, we love giving each other a hard time.  The last time we played, we hit a major snag!  Another coven of vampires came up.  Their leader, James, was a merciless “tracker” and he decided that Bella would be his next meal.  Of course, I just couldn’t let that hap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393840" y="-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393840" y="-1228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393840" y="-3906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393840" y="752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393840" y="1895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393840" y="2857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93840" y="408636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393840" y="63626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93840" y="808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533520" y="5562720"/>
            <a:ext cx="761760" cy="914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248520" y="-177840"/>
            <a:ext cx="1003320" cy="355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1676520" y="5562720"/>
            <a:ext cx="780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95480" y="2209680"/>
            <a:ext cx="5791320" cy="838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04920"/>
            <a:ext cx="1930320" cy="217152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-1066680"/>
            <a:ext cx="9144000" cy="126036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-838080"/>
            <a:ext cx="8610480" cy="482400"/>
          </a:xfrm>
          <a:prstGeom prst="roundRect">
            <a:avLst>
              <a:gd name="adj" fmla="val 26551"/>
            </a:avLst>
          </a:prstGeom>
          <a:solidFill>
            <a:srgbClr val="3a58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-838080"/>
            <a:ext cx="1193760" cy="44928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98" name=""/>
          <p:cNvSpPr/>
          <p:nvPr/>
        </p:nvSpPr>
        <p:spPr>
          <a:xfrm>
            <a:off x="2362320" y="-60948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Home      Profile         Friends        In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705720" y="-762120"/>
            <a:ext cx="2019240" cy="330480"/>
          </a:xfrm>
          <a:prstGeom prst="roundRect">
            <a:avLst>
              <a:gd name="adj" fmla="val 315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-685800"/>
            <a:ext cx="6987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-168120"/>
            <a:ext cx="2895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dward Cu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-177840"/>
            <a:ext cx="355680" cy="355680"/>
          </a:xfrm>
          <a:prstGeom prst="rect">
            <a:avLst/>
          </a:prstGeom>
          <a:solidFill>
            <a:srgbClr val="c0c4d1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-146160"/>
            <a:ext cx="8002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Inf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ho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29600" y="-139680"/>
            <a:ext cx="380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04812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More Stuff About 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1219320"/>
            <a:ext cx="5791320" cy="838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93840" y="-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393840" y="-1228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393840" y="-3906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393840" y="752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93840" y="1895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93840" y="2857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393840" y="408636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393840" y="63626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393840" y="808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971800" y="228600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248520" y="-177840"/>
            <a:ext cx="1003320" cy="355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457200"/>
            <a:ext cx="6019920" cy="482760"/>
          </a:xfrm>
          <a:prstGeom prst="roundRect">
            <a:avLst>
              <a:gd name="adj" fmla="val 2655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533520"/>
            <a:ext cx="3962520" cy="304560"/>
          </a:xfrm>
          <a:prstGeom prst="roundRect">
            <a:avLst>
              <a:gd name="adj" fmla="val 2655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you doing right 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533520"/>
            <a:ext cx="800280" cy="291960"/>
          </a:xfrm>
          <a:prstGeom prst="rect">
            <a:avLst/>
          </a:prstGeom>
          <a:solidFill>
            <a:srgbClr val="333399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o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971800" y="1295280"/>
            <a:ext cx="571680" cy="685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657600" y="1371600"/>
            <a:ext cx="48006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Edward Cull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1:00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’m just hanging out watching Bella sleep.  She’s dreaming and making funny f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2209680"/>
            <a:ext cx="48006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Jacob 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1:09 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lin’ and wondering why I keep having the urge to howl at the mo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342900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lin and wondering why I keep having the urge to howl at the mo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276720"/>
            <a:ext cx="5791320" cy="838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4343400"/>
            <a:ext cx="5791320" cy="914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971800" y="5562360"/>
            <a:ext cx="5791320" cy="761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2971800" y="335268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733920" y="3352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Alice Cull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1:40 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 many clothes and so little time!  L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3048120" y="4419720"/>
            <a:ext cx="506160" cy="76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09880" y="4419720"/>
            <a:ext cx="48006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Emmett Hale Cull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2:01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ping I get to meet up with James very, very soon.  Nobody messes with the Cullen Coven or our frie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3048120" y="5562720"/>
            <a:ext cx="549000" cy="685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733920" y="5638680"/>
            <a:ext cx="48006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Rosalie Hale Cull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2:0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lla, Bella, Bella!  I just don’t get it.  She’s so…huma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121932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220968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3505320"/>
            <a:ext cx="2032200" cy="28954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len Co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o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ks High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vorite Hobb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k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327672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434340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556272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304920"/>
            <a:ext cx="1930320" cy="217152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-1066680"/>
            <a:ext cx="9144000" cy="126036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-838080"/>
            <a:ext cx="8610480" cy="482400"/>
          </a:xfrm>
          <a:prstGeom prst="roundRect">
            <a:avLst>
              <a:gd name="adj" fmla="val 26551"/>
            </a:avLst>
          </a:prstGeom>
          <a:solidFill>
            <a:srgbClr val="3a58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200" y="-838080"/>
            <a:ext cx="1193760" cy="44928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149" name=""/>
          <p:cNvSpPr/>
          <p:nvPr/>
        </p:nvSpPr>
        <p:spPr>
          <a:xfrm>
            <a:off x="2362320" y="-60948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Home      Profile         Friends        In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705720" y="-762120"/>
            <a:ext cx="2019240" cy="330480"/>
          </a:xfrm>
          <a:prstGeom prst="roundRect">
            <a:avLst>
              <a:gd name="adj" fmla="val 315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-685800"/>
            <a:ext cx="6987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-168120"/>
            <a:ext cx="2895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dward Cu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4852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29600" y="-177840"/>
            <a:ext cx="355680" cy="355680"/>
          </a:xfrm>
          <a:prstGeom prst="rect">
            <a:avLst/>
          </a:prstGeom>
          <a:solidFill>
            <a:srgbClr val="c0c4d1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-146160"/>
            <a:ext cx="79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Inf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ho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29600" y="-139680"/>
            <a:ext cx="380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1295280"/>
            <a:ext cx="1524240" cy="1067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93840" y="-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393840" y="-1228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393840" y="-3906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393840" y="752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393840" y="1895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393840" y="2857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393840" y="408636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393840" y="63626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393840" y="808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-177840"/>
            <a:ext cx="1003320" cy="355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6880" y="457200"/>
            <a:ext cx="6019920" cy="482760"/>
          </a:xfrm>
          <a:prstGeom prst="roundRect">
            <a:avLst>
              <a:gd name="adj" fmla="val 2655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533520"/>
            <a:ext cx="3962520" cy="304560"/>
          </a:xfrm>
          <a:prstGeom prst="roundRect">
            <a:avLst>
              <a:gd name="adj" fmla="val 2655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rite Pho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91520" y="533520"/>
            <a:ext cx="799920" cy="291960"/>
          </a:xfrm>
          <a:prstGeom prst="rect">
            <a:avLst/>
          </a:prstGeom>
          <a:solidFill>
            <a:srgbClr val="333399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o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1295280"/>
            <a:ext cx="3657600" cy="2362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4191120"/>
            <a:ext cx="3657600" cy="2361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4191120"/>
            <a:ext cx="3886200" cy="228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2819520"/>
            <a:ext cx="152424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2819520"/>
            <a:ext cx="152388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819520" y="2819520"/>
            <a:ext cx="1676160" cy="1060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029200" y="1295280"/>
            <a:ext cx="3733920" cy="2333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2819520" y="1295280"/>
            <a:ext cx="1600200" cy="1185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533520" y="2819520"/>
            <a:ext cx="1752480" cy="10922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533520" y="4191120"/>
            <a:ext cx="4038480" cy="2422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181480" y="312408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roach"/>
              </a:rPr>
              <a:t>Oh Edward, you’re so awesome…sigh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5105520" y="4114800"/>
            <a:ext cx="37479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light by Stephanie M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4:47:39Z</dcterms:created>
  <dc:creator>user</dc:creator>
  <dc:description/>
  <dc:language>en-US</dc:language>
  <cp:lastModifiedBy>user</cp:lastModifiedBy>
  <dcterms:modified xsi:type="dcterms:W3CDTF">2010-04-21T12:53:34Z</dcterms:modified>
  <cp:revision>10</cp:revision>
  <dc:subject/>
  <dc:title>Slide 1</dc:title>
</cp:coreProperties>
</file>