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F5B-0AAF-4242-9482-04277A5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F88-01C1-49A8-B977-CD310A8F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95F-E933-47B5-9C44-FA92EE5C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747-5693-4153-A99F-C20F065F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7B9-F935-4452-B094-E794A320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23C-9E59-4EEE-8111-4CDC43C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99F-1D8B-494D-AE8D-1B80863E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C04-305E-4F76-8CB7-89809F6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264-21AD-4FBB-A930-1CFF1EA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A56-4660-4813-952F-3769F06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DAB-68CD-4751-A5F0-FF82C35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10A-D491-46E1-84C8-944548B4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001E-3127-4DDD-BE3F-ADEC25CC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914400" cy="10540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914400" cy="10666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7048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-152280"/>
            <a:ext cx="7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2031840" cy="35532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66688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Friends &amp; Enem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0880"/>
            <a:ext cx="5715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ic Information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200400"/>
            <a:ext cx="538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morable Moment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905120"/>
            <a:ext cx="532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out Me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480"/>
            <a:ext cx="4077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Edward C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June 20,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pl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17 (for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son for becoming a vamp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Dying of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ationship Sta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029200"/>
            <a:ext cx="52513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 almost ninety years I’ve walked among my kind, and yours…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time thinking I was complete in myself, not realiz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 was seeking. And not finding anything, because you weren’t alive yet.”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14, p.30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 blood, no foul.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3, p.6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f I’m not a superhero? What if I’m the bad guy?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5, p.9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133720"/>
            <a:ext cx="40258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spending time with Bella S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joys listening to music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getarian vamp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 read people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to driv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724280"/>
            <a:ext cx="5461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otes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429000"/>
            <a:ext cx="510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ying baseball during a thunderstorm is awesome.  It gives us a chance to just be ourselves.  We can use our super strength to run fast and high.  Of course, we love giving each other a hard time.  The last time we played, we hit a major snag!  Another coven of vampires came up.  Their leader, James, was a merciless “tracker” and he decided that Bella would be his next meal.  Of course, I just couldn’t let that hap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33520" y="556272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76520" y="5562720"/>
            <a:ext cx="780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2209680"/>
            <a:ext cx="5791320" cy="838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98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-146160"/>
            <a:ext cx="800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04812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More Stuff About 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2193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doing right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33520"/>
            <a:ext cx="80028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71800" y="129528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37160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dward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just hanging out watching Bella sleep.  She’s dreaming and making funny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20968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cob 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9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’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4290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2767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343400"/>
            <a:ext cx="579132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5562360"/>
            <a:ext cx="5791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33526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3352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lic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40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many clothes and so little time!  L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8120" y="4419720"/>
            <a:ext cx="50616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441972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mmett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1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ing I get to meet up with James very, very soon.  Nobody messes with the Cullen Coven or our fri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549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5638680"/>
            <a:ext cx="4800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osalie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a, Bella, Bella!  I just don’t get it.  She’s so…hum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2193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20968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2032200" cy="28954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len C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ks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ite Hob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k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276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34340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562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4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-146160"/>
            <a:ext cx="79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1295280"/>
            <a:ext cx="15242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520"/>
            <a:ext cx="79992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3657600" cy="236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191120"/>
            <a:ext cx="36576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191120"/>
            <a:ext cx="38862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19520"/>
            <a:ext cx="152424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819520"/>
            <a:ext cx="1523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1676160" cy="106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4038480" cy="242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1480" y="31240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oach"/>
              </a:rPr>
              <a:t>Oh Edward, you’re so awesome…sigh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105520" y="4114800"/>
            <a:ext cx="37479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light by Stephanie M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4:47:39Z</dcterms:created>
  <dc:creator>user</dc:creator>
  <dc:description/>
  <dc:language>en-US</dc:language>
  <cp:lastModifiedBy>user</cp:lastModifiedBy>
  <dcterms:modified xsi:type="dcterms:W3CDTF">2010-04-21T12:53:34Z</dcterms:modified>
  <cp:revision>10</cp:revision>
  <dc:subject/>
  <dc:title>Slide 1</dc:title>
</cp:coreProperties>
</file>