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6197-FD85-4B0B-A8EB-5D5970FF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D920-960E-477B-80A6-B325E282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F866-89B6-42D7-AB45-C21980D1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67C4-916B-42A7-A10D-067C2762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870-1DCA-43AC-87E6-DF956312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7BF-7B5A-4AB4-AB1F-C2D5B112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82F-5C9D-40F3-A253-A9F4A361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119-4558-4D24-B084-FB99C3A2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CE7-4544-4D59-BAD4-B11C92C1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964-7241-4F8C-B669-25202F3C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F57-FFBE-47DF-9B31-D3F41402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AF9-317B-4507-8B01-29995931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54A5-B4E8-4D23-94FC-9A24A240F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1930320" cy="217152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486400"/>
            <a:ext cx="914400" cy="105408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486400"/>
            <a:ext cx="914400" cy="106668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426708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26708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04812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04812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76176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780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76520" y="4343400"/>
            <a:ext cx="76176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33520" y="4343400"/>
            <a:ext cx="70488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393840" y="-1228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93840" y="-1228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93840" y="-1228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1066680"/>
            <a:ext cx="9144000" cy="1260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-838080"/>
            <a:ext cx="8610480" cy="482400"/>
          </a:xfrm>
          <a:prstGeom prst="roundRect">
            <a:avLst>
              <a:gd name="adj" fmla="val 26551"/>
            </a:avLst>
          </a:prstGeom>
          <a:solidFill>
            <a:srgbClr val="3a5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57200" y="-838080"/>
            <a:ext cx="1193760" cy="44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59" name=""/>
          <p:cNvSpPr/>
          <p:nvPr/>
        </p:nvSpPr>
        <p:spPr>
          <a:xfrm>
            <a:off x="2362320" y="-6094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ome      Profile         Friends        In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705720" y="-762120"/>
            <a:ext cx="2019240" cy="330480"/>
          </a:xfrm>
          <a:prstGeom prst="roundRect">
            <a:avLst>
              <a:gd name="adj" fmla="val 315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-685800"/>
            <a:ext cx="69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-168120"/>
            <a:ext cx="289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dward Cu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29600" y="-177840"/>
            <a:ext cx="355680" cy="355680"/>
          </a:xfrm>
          <a:prstGeom prst="rect">
            <a:avLst/>
          </a:prstGeom>
          <a:solidFill>
            <a:srgbClr val="c0c4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-152280"/>
            <a:ext cx="799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ho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29600" y="-139680"/>
            <a:ext cx="38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90920"/>
            <a:ext cx="2031840" cy="35532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666880"/>
            <a:ext cx="2057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Friends &amp; Enem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80880"/>
            <a:ext cx="5715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asic Information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3200400"/>
            <a:ext cx="5384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emorable Moment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905120"/>
            <a:ext cx="5321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out Me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609480"/>
            <a:ext cx="4077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Edward Cu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rthd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June 20,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rthpla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Chicago, 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17 (fore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ason for becoming a vampi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Dying of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lationship Stat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5029200"/>
            <a:ext cx="52513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r almost ninety years I’ve walked among my kind, and yours…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l the time thinking I was complete in myself, not realiz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at I was seeking. And not finding anything, because you weren’t alive yet.”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Chapter 14, p.30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o blood, no foul.”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Chapter 3, p.6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at if I’m not a superhero? What if I’m the bad guy?”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Chapter 5, p.9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2133720"/>
            <a:ext cx="40258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oves spending time with Bella S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joys listening to music an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getarian vamp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n read people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oves to drive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4724280"/>
            <a:ext cx="54612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Quotes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3429000"/>
            <a:ext cx="5105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ying baseball during a thunderstorm is awesome.  It gives us a chance to just be ourselves.  We can use our super strength to run fast and high.  Of course, we love giving each other a hard time.  The last time we played, we hit a major snag!  Another coven of vampires came up.  Their leader, James, was a merciless “tracker” and he decided that Bella would be his next meal.  Of course, I just couldn’t let that hap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393840" y="-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393840" y="-1228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393840" y="-39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393840" y="752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393840" y="1895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93840" y="2857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93840" y="40863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393840" y="636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93840" y="80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533520" y="5562720"/>
            <a:ext cx="76176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676520" y="5562720"/>
            <a:ext cx="780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95480" y="2209680"/>
            <a:ext cx="5791320" cy="838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04920"/>
            <a:ext cx="1930320" cy="217152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-1066680"/>
            <a:ext cx="9144000" cy="1260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-838080"/>
            <a:ext cx="8610480" cy="482400"/>
          </a:xfrm>
          <a:prstGeom prst="roundRect">
            <a:avLst>
              <a:gd name="adj" fmla="val 26551"/>
            </a:avLst>
          </a:prstGeom>
          <a:solidFill>
            <a:srgbClr val="3a5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-838080"/>
            <a:ext cx="1193760" cy="44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98" name=""/>
          <p:cNvSpPr/>
          <p:nvPr/>
        </p:nvSpPr>
        <p:spPr>
          <a:xfrm>
            <a:off x="2362320" y="-6094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ome      Profile         Friends        In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705720" y="-762120"/>
            <a:ext cx="2019240" cy="330480"/>
          </a:xfrm>
          <a:prstGeom prst="roundRect">
            <a:avLst>
              <a:gd name="adj" fmla="val 315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-685800"/>
            <a:ext cx="69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-168120"/>
            <a:ext cx="289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dward Cu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-177840"/>
            <a:ext cx="355680" cy="355680"/>
          </a:xfrm>
          <a:prstGeom prst="rect">
            <a:avLst/>
          </a:prstGeom>
          <a:solidFill>
            <a:srgbClr val="c0c4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-146160"/>
            <a:ext cx="800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ho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-139680"/>
            <a:ext cx="38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04812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More Stuff About 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219320"/>
            <a:ext cx="5791320" cy="838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93840" y="-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393840" y="-1228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93840" y="-39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393840" y="752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93840" y="1895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93840" y="2857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93840" y="40863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393840" y="636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3840" y="80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457200"/>
            <a:ext cx="6019920" cy="482760"/>
          </a:xfrm>
          <a:prstGeom prst="roundRect">
            <a:avLst>
              <a:gd name="adj" fmla="val 265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533520"/>
            <a:ext cx="3962520" cy="304560"/>
          </a:xfrm>
          <a:prstGeom prst="roundRect">
            <a:avLst>
              <a:gd name="adj" fmla="val 2655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you doing right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533520"/>
            <a:ext cx="800280" cy="291960"/>
          </a:xfrm>
          <a:prstGeom prst="rect">
            <a:avLst/>
          </a:prstGeom>
          <a:solidFill>
            <a:srgbClr val="333399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o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971800" y="1295280"/>
            <a:ext cx="571680" cy="685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657600" y="1371600"/>
            <a:ext cx="4800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Edward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1:00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’m just hanging out watching Bella sleep.  She’s dreaming and making funny f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2209680"/>
            <a:ext cx="4800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Jacob 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1:09 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lin’ and wondering why I keep having the urge to howl at the mo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342900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lin and wondering why I keep having the urge to howl at the mo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276720"/>
            <a:ext cx="5791320" cy="838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4343400"/>
            <a:ext cx="5791320" cy="914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971800" y="5562360"/>
            <a:ext cx="5791320" cy="761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971800" y="335268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33920" y="3352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lice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1:40 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 many clothes and so little time!  L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3048120" y="4419720"/>
            <a:ext cx="506160" cy="76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9880" y="4419720"/>
            <a:ext cx="4800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Emmett Hale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2:01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ping I get to meet up with James very, very soon.  Nobody messes with the Cullen Coven or our frie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048120" y="5562720"/>
            <a:ext cx="549000" cy="685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733920" y="5638680"/>
            <a:ext cx="48006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osalie Hale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2:0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lla, Bella, Bella!  I just don’t get it.  She’s so…huma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121932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220968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505320"/>
            <a:ext cx="2032200" cy="28954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len Co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ks High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vorite Hobb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k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327672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434340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556272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304920"/>
            <a:ext cx="1930320" cy="217152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-1066680"/>
            <a:ext cx="9144000" cy="1260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-838080"/>
            <a:ext cx="8610480" cy="482400"/>
          </a:xfrm>
          <a:prstGeom prst="roundRect">
            <a:avLst>
              <a:gd name="adj" fmla="val 26551"/>
            </a:avLst>
          </a:prstGeom>
          <a:solidFill>
            <a:srgbClr val="3a5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" y="-838080"/>
            <a:ext cx="1193760" cy="44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149" name=""/>
          <p:cNvSpPr/>
          <p:nvPr/>
        </p:nvSpPr>
        <p:spPr>
          <a:xfrm>
            <a:off x="2362320" y="-6094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ome      Profile         Friends        In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705720" y="-762120"/>
            <a:ext cx="2019240" cy="330480"/>
          </a:xfrm>
          <a:prstGeom prst="roundRect">
            <a:avLst>
              <a:gd name="adj" fmla="val 315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-685800"/>
            <a:ext cx="69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-168120"/>
            <a:ext cx="289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dward Cu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29600" y="-177840"/>
            <a:ext cx="355680" cy="355680"/>
          </a:xfrm>
          <a:prstGeom prst="rect">
            <a:avLst/>
          </a:prstGeom>
          <a:solidFill>
            <a:srgbClr val="c0c4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-146160"/>
            <a:ext cx="79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ho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29600" y="-139680"/>
            <a:ext cx="38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1295280"/>
            <a:ext cx="1524240" cy="1067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93840" y="-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393840" y="-1228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93840" y="-39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393840" y="752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93840" y="1895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393840" y="2857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393840" y="40863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393840" y="636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393840" y="80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-177840"/>
            <a:ext cx="1003320" cy="355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457200"/>
            <a:ext cx="6019920" cy="482760"/>
          </a:xfrm>
          <a:prstGeom prst="roundRect">
            <a:avLst>
              <a:gd name="adj" fmla="val 265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533520"/>
            <a:ext cx="3962520" cy="304560"/>
          </a:xfrm>
          <a:prstGeom prst="roundRect">
            <a:avLst>
              <a:gd name="adj" fmla="val 2655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ite Ph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533520"/>
            <a:ext cx="799920" cy="291960"/>
          </a:xfrm>
          <a:prstGeom prst="rect">
            <a:avLst/>
          </a:prstGeom>
          <a:solidFill>
            <a:srgbClr val="333399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o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1295280"/>
            <a:ext cx="3657600" cy="2362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191120"/>
            <a:ext cx="3657600" cy="236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4191120"/>
            <a:ext cx="3886200" cy="228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2819520"/>
            <a:ext cx="152424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819520"/>
            <a:ext cx="152388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819520" y="2819520"/>
            <a:ext cx="1676160" cy="1060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029200" y="1295280"/>
            <a:ext cx="3733920" cy="2333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819520" y="1295280"/>
            <a:ext cx="1600200" cy="1185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533520" y="2819520"/>
            <a:ext cx="1752480" cy="1092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533520" y="4191120"/>
            <a:ext cx="4038480" cy="2422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181480" y="312408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oach"/>
              </a:rPr>
              <a:t>Oh Edward, you’re so awesome…sigh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105520" y="4114800"/>
            <a:ext cx="37479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light by Stephanie M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4:47:39Z</dcterms:created>
  <dc:creator>user</dc:creator>
  <dc:description/>
  <dc:language>en-US</dc:language>
  <cp:lastModifiedBy>user</cp:lastModifiedBy>
  <dcterms:modified xsi:type="dcterms:W3CDTF">2010-04-21T12:53:34Z</dcterms:modified>
  <cp:revision>10</cp:revision>
  <dc:subject/>
  <dc:title>Slide 1</dc:title>
</cp:coreProperties>
</file>